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70EF-C952-4EAF-87CB-65081B9EE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C418-B77D-41CB-86C1-A6CE023E1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72DC-D79E-4DF5-BEE1-A205F6216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FE6A-CA3F-478E-9A65-08BA46785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B043-C25D-4E05-88F6-616FC4BBD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2746-C10E-4A95-86DB-77817C534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CF8A-3D41-43A2-872C-F56429646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C6A4-5580-434B-873A-A53F62DA3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8DA0-5868-45DB-AC19-9ECEBE186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3D4E-F97B-4153-8B65-937D74854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03D4-BDB9-404F-B4EF-8AD4F6B42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927B-898B-476E-BC1A-0EE1AF599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E79F51-EBB6-4504-B9C8-CD0F062CD69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45240" cy="708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4524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2-18T18:05:17Z</dcterms:modified>
  <cp:revision>94</cp:revision>
  <dc:subject/>
  <dc:title>No Slide Title</dc:title>
</cp:coreProperties>
</file>